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30ab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30ab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"/>
          <p:cNvSpPr/>
          <p:nvPr/>
        </p:nvSpPr>
        <p:spPr>
          <a:xfrm>
            <a:off x="971640" y="6521400"/>
            <a:ext cx="705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Lucida Sans"/>
              </a:rPr>
              <a:t>IN72K – Tecnologías de información y rediseño de proces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826920" y="1916280"/>
            <a:ext cx="749016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Lucida Sans"/>
              </a:rPr>
              <a:t>IN72k</a:t>
            </a:r>
            <a:br>
              <a:rPr sz="7200"/>
            </a:br>
            <a:r>
              <a:rPr b="0" lang="es-ES" sz="2500" spc="-1" strike="noStrike">
                <a:solidFill>
                  <a:srgbClr val="000000"/>
                </a:solidFill>
                <a:latin typeface="Lucida Sans"/>
              </a:rPr>
              <a:t>Tecnologías</a:t>
            </a:r>
            <a:r>
              <a:rPr b="0" lang="en-US" sz="2500" spc="-1" strike="noStrike">
                <a:solidFill>
                  <a:srgbClr val="000000"/>
                </a:solidFill>
                <a:latin typeface="Lucida Sans"/>
              </a:rPr>
              <a:t> de </a:t>
            </a:r>
            <a:r>
              <a:rPr b="0" lang="es-ES" sz="2500" spc="-1" strike="noStrike">
                <a:solidFill>
                  <a:srgbClr val="000000"/>
                </a:solidFill>
                <a:latin typeface="Lucida Sans"/>
              </a:rPr>
              <a:t>información</a:t>
            </a:r>
            <a:r>
              <a:rPr b="0" lang="en-US" sz="2500" spc="-1" strike="noStrike">
                <a:solidFill>
                  <a:srgbClr val="000000"/>
                </a:solidFill>
                <a:latin typeface="Lucida Sans"/>
              </a:rPr>
              <a:t> y rediseño de </a:t>
            </a:r>
            <a:r>
              <a:rPr b="0" lang="es-ES" sz="2500" spc="-1" strike="noStrike">
                <a:solidFill>
                  <a:srgbClr val="000000"/>
                </a:solidFill>
                <a:latin typeface="Lucida Sans"/>
              </a:rPr>
              <a:t>procesos</a:t>
            </a:r>
            <a:br>
              <a:rPr sz="2500"/>
            </a:br>
            <a:br>
              <a:rPr sz="2500"/>
            </a:br>
            <a:r>
              <a:rPr b="0" lang="es-ES" sz="2500" spc="-1" strike="noStrike">
                <a:solidFill>
                  <a:srgbClr val="000000"/>
                </a:solidFill>
                <a:latin typeface="Lucida Sans"/>
              </a:rPr>
              <a:t>Auxiliar 1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0" y="6165360"/>
            <a:ext cx="907272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Lucida Sans"/>
              </a:rPr>
              <a:t>03 de Agosto de 2005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"/>
          <p:cNvSpPr/>
          <p:nvPr/>
        </p:nvSpPr>
        <p:spPr>
          <a:xfrm>
            <a:off x="5076720" y="515772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Lucida Sans"/>
              </a:rPr>
              <a:t>Prof. Aux.: Matías Pulido So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Lucida Sans"/>
              </a:rPr>
              <a:t>mpulido@dii.uchile.c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344680" y="2938320"/>
            <a:ext cx="94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44360" y="765000"/>
          <a:ext cx="838440" cy="981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360" y="765000"/>
                    <a:ext cx="838440" cy="9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0" y="836640"/>
          <a:ext cx="4454640" cy="914400"/>
        </p:xfrm>
        <a:graphic>
          <a:graphicData uri="http://schemas.openxmlformats.org/drawingml/2006/table">
            <a:tbl>
              <a:tblPr/>
              <a:tblGrid>
                <a:gridCol w="944640"/>
                <a:gridCol w="3510000"/>
              </a:tblGrid>
              <a:tr h="91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NewsGoth Lt BT"/>
                          <a:ea typeface="Times New Roman"/>
                        </a:rPr>
                        <a:t>FACULTAD DE CIENCIAS FÍSICAS Y MATEMÁTIC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PARTAMENTO D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ENIERÍA INDUSTRI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gíster en 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tión de 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acion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990720" y="1905120"/>
            <a:ext cx="7390800" cy="3352320"/>
            <a:chOff x="990720" y="1905120"/>
            <a:chExt cx="7390800" cy="3352320"/>
          </a:xfrm>
        </p:grpSpPr>
        <p:pic>
          <p:nvPicPr>
            <p:cNvPr id="67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990720" y="1905120"/>
              <a:ext cx="7390800" cy="335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3"/>
            <a:stretch/>
          </p:blipFill>
          <p:spPr>
            <a:xfrm>
              <a:off x="1994040" y="2346120"/>
              <a:ext cx="5200920" cy="250452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</p:pic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Modelo de análisis estructurado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SADT (Structured Analysis and Design Technique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Proceso (</a:t>
            </a:r>
            <a:r>
              <a:rPr b="0" lang="es-ES" sz="2400" spc="-1" strike="noStrike">
                <a:solidFill>
                  <a:srgbClr val="000099"/>
                </a:solidFill>
                <a:latin typeface="Lucida Sans"/>
              </a:rPr>
              <a:t>Transformación de Datos</a:t>
            </a: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), Flujo de Datos (Input / Output), Almacenamiento de Datos, Agente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217880" y="3581280"/>
            <a:ext cx="7023600" cy="2549160"/>
            <a:chOff x="1217880" y="3581280"/>
            <a:chExt cx="7023600" cy="2549160"/>
          </a:xfrm>
        </p:grpSpPr>
        <p:sp>
          <p:nvSpPr>
            <p:cNvPr id="72" name=""/>
            <p:cNvSpPr/>
            <p:nvPr/>
          </p:nvSpPr>
          <p:spPr>
            <a:xfrm>
              <a:off x="1301760" y="3822480"/>
              <a:ext cx="1786680" cy="720"/>
            </a:xfrm>
            <a:custGeom>
              <a:avLst/>
              <a:gdLst/>
              <a:ahLst/>
              <a:rect l="l" t="t" r="r" b="b"/>
              <a:pathLst>
                <a:path w="1234" h="1">
                  <a:moveTo>
                    <a:pt x="0" y="0"/>
                  </a:moveTo>
                  <a:lnTo>
                    <a:pt x="1233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21480" y="3864600"/>
              <a:ext cx="4210920" cy="720"/>
            </a:xfrm>
            <a:custGeom>
              <a:avLst/>
              <a:gdLst/>
              <a:ahLst/>
              <a:rect l="l" t="t" r="r" b="b"/>
              <a:pathLst>
                <a:path w="2908" h="1">
                  <a:moveTo>
                    <a:pt x="0" y="0"/>
                  </a:moveTo>
                  <a:lnTo>
                    <a:pt x="2907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278720" y="3610080"/>
              <a:ext cx="17589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rdenes del Clien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034680" y="3639240"/>
              <a:ext cx="2206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rdenes Alimento, Plat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65280" y="4291560"/>
              <a:ext cx="14922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ienes vendid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87240" y="4179240"/>
              <a:ext cx="264960" cy="557280"/>
            </a:xfrm>
            <a:custGeom>
              <a:avLst/>
              <a:gdLst/>
              <a:ahLst/>
              <a:rect l="l" t="t" r="r" b="b"/>
              <a:pathLst>
                <a:path w="289" h="478">
                  <a:moveTo>
                    <a:pt x="0" y="0"/>
                  </a:moveTo>
                  <a:lnTo>
                    <a:pt x="0" y="477"/>
                  </a:lnTo>
                  <a:lnTo>
                    <a:pt x="288" y="47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243600" y="4169160"/>
              <a:ext cx="535680" cy="945720"/>
            </a:xfrm>
            <a:custGeom>
              <a:avLst/>
              <a:gdLst/>
              <a:ahLst/>
              <a:rect l="l" t="t" r="r" b="b"/>
              <a:pathLst>
                <a:path w="370" h="811">
                  <a:moveTo>
                    <a:pt x="0" y="0"/>
                  </a:moveTo>
                  <a:lnTo>
                    <a:pt x="0" y="810"/>
                  </a:lnTo>
                  <a:lnTo>
                    <a:pt x="369" y="81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925160" y="4704480"/>
              <a:ext cx="1161000" cy="147960"/>
            </a:xfrm>
            <a:custGeom>
              <a:avLst/>
              <a:gdLst/>
              <a:ahLst/>
              <a:rect l="l" t="t" r="r" b="b"/>
              <a:pathLst>
                <a:path w="802" h="127">
                  <a:moveTo>
                    <a:pt x="0" y="0"/>
                  </a:moveTo>
                  <a:lnTo>
                    <a:pt x="576" y="0"/>
                  </a:lnTo>
                  <a:lnTo>
                    <a:pt x="576" y="126"/>
                  </a:lnTo>
                  <a:lnTo>
                    <a:pt x="801" y="12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925160" y="5113440"/>
              <a:ext cx="1161000" cy="1080"/>
            </a:xfrm>
            <a:custGeom>
              <a:avLst/>
              <a:gdLst/>
              <a:ahLst/>
              <a:rect l="l" t="t" r="r" b="b"/>
              <a:pathLst>
                <a:path w="802" h="1">
                  <a:moveTo>
                    <a:pt x="0" y="0"/>
                  </a:moveTo>
                  <a:lnTo>
                    <a:pt x="28" y="0"/>
                  </a:lnTo>
                  <a:lnTo>
                    <a:pt x="83" y="0"/>
                  </a:lnTo>
                  <a:lnTo>
                    <a:pt x="175" y="0"/>
                  </a:lnTo>
                  <a:lnTo>
                    <a:pt x="249" y="0"/>
                  </a:lnTo>
                  <a:lnTo>
                    <a:pt x="322" y="0"/>
                  </a:lnTo>
                  <a:lnTo>
                    <a:pt x="387" y="0"/>
                  </a:lnTo>
                  <a:lnTo>
                    <a:pt x="433" y="0"/>
                  </a:lnTo>
                  <a:lnTo>
                    <a:pt x="479" y="0"/>
                  </a:lnTo>
                  <a:lnTo>
                    <a:pt x="506" y="0"/>
                  </a:lnTo>
                  <a:lnTo>
                    <a:pt x="534" y="0"/>
                  </a:lnTo>
                  <a:lnTo>
                    <a:pt x="562" y="0"/>
                  </a:lnTo>
                  <a:lnTo>
                    <a:pt x="589" y="0"/>
                  </a:lnTo>
                  <a:lnTo>
                    <a:pt x="617" y="0"/>
                  </a:lnTo>
                  <a:lnTo>
                    <a:pt x="644" y="0"/>
                  </a:lnTo>
                  <a:lnTo>
                    <a:pt x="681" y="0"/>
                  </a:lnTo>
                  <a:lnTo>
                    <a:pt x="718" y="0"/>
                  </a:lnTo>
                  <a:lnTo>
                    <a:pt x="746" y="0"/>
                  </a:lnTo>
                  <a:lnTo>
                    <a:pt x="773" y="0"/>
                  </a:lnTo>
                  <a:lnTo>
                    <a:pt x="801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288800" y="5627880"/>
              <a:ext cx="1617480" cy="720"/>
            </a:xfrm>
            <a:custGeom>
              <a:avLst/>
              <a:gdLst/>
              <a:ahLst/>
              <a:rect l="l" t="t" r="r" b="b"/>
              <a:pathLst>
                <a:path w="1117" h="1">
                  <a:moveTo>
                    <a:pt x="0" y="0"/>
                  </a:moveTo>
                  <a:lnTo>
                    <a:pt x="1116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217880" y="5405040"/>
              <a:ext cx="9039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mpr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791160" y="5208120"/>
              <a:ext cx="483480" cy="410400"/>
            </a:xfrm>
            <a:custGeom>
              <a:avLst/>
              <a:gdLst/>
              <a:ahLst/>
              <a:rect l="l" t="t" r="r" b="b"/>
              <a:pathLst>
                <a:path w="334" h="352">
                  <a:moveTo>
                    <a:pt x="0" y="351"/>
                  </a:moveTo>
                  <a:lnTo>
                    <a:pt x="333" y="351"/>
                  </a:lnTo>
                  <a:lnTo>
                    <a:pt x="333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957000" y="4924440"/>
              <a:ext cx="1214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374560" y="4766040"/>
              <a:ext cx="9676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ambio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 Invent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074200" y="5100840"/>
              <a:ext cx="1015200" cy="7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iveles 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ventar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iari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933800" y="4354560"/>
              <a:ext cx="1381320" cy="7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ienes vendid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iariamen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898800" y="5615280"/>
              <a:ext cx="132300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cremento 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ventar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080840" y="4479120"/>
              <a:ext cx="115380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portes 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est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3557880" y="5020200"/>
              <a:ext cx="1391400" cy="279360"/>
              <a:chOff x="3557880" y="5020200"/>
              <a:chExt cx="1391400" cy="279360"/>
            </a:xfrm>
          </p:grpSpPr>
          <p:sp>
            <p:nvSpPr>
              <p:cNvPr id="91" name=""/>
              <p:cNvSpPr/>
              <p:nvPr/>
            </p:nvSpPr>
            <p:spPr>
              <a:xfrm>
                <a:off x="3764880" y="5029200"/>
                <a:ext cx="1174320" cy="190080"/>
              </a:xfrm>
              <a:custGeom>
                <a:avLst/>
                <a:gdLst/>
                <a:ahLst/>
                <a:rect l="l" t="t" r="r" b="b"/>
                <a:pathLst>
                  <a:path w="811" h="163">
                    <a:moveTo>
                      <a:pt x="810" y="0"/>
                    </a:moveTo>
                    <a:lnTo>
                      <a:pt x="0" y="0"/>
                    </a:lnTo>
                    <a:lnTo>
                      <a:pt x="0" y="162"/>
                    </a:lnTo>
                    <a:lnTo>
                      <a:pt x="810" y="16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025520" y="5033880"/>
                <a:ext cx="0" cy="17928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557880" y="5028120"/>
                <a:ext cx="726840" cy="271440"/>
              </a:xfrm>
              <a:prstGeom prst="rect">
                <a:avLst/>
              </a:prstGeom>
              <a:noFill/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883320" y="5020200"/>
                <a:ext cx="1065960" cy="271440"/>
              </a:xfrm>
              <a:prstGeom prst="rect">
                <a:avLst/>
              </a:prstGeom>
              <a:noFill/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nventari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3374280" y="4631760"/>
              <a:ext cx="1667520" cy="453960"/>
              <a:chOff x="3374280" y="4631760"/>
              <a:chExt cx="1667520" cy="453960"/>
            </a:xfrm>
          </p:grpSpPr>
          <p:sp>
            <p:nvSpPr>
              <p:cNvPr id="96" name=""/>
              <p:cNvSpPr/>
              <p:nvPr/>
            </p:nvSpPr>
            <p:spPr>
              <a:xfrm>
                <a:off x="3622320" y="4640760"/>
                <a:ext cx="1408320" cy="189720"/>
              </a:xfrm>
              <a:custGeom>
                <a:avLst/>
                <a:gdLst/>
                <a:ahLst/>
                <a:rect l="l" t="t" r="r" b="b"/>
                <a:pathLst>
                  <a:path w="811" h="163">
                    <a:moveTo>
                      <a:pt x="810" y="0"/>
                    </a:moveTo>
                    <a:lnTo>
                      <a:pt x="0" y="0"/>
                    </a:lnTo>
                    <a:lnTo>
                      <a:pt x="0" y="162"/>
                    </a:lnTo>
                    <a:lnTo>
                      <a:pt x="810" y="16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934800" y="4645440"/>
                <a:ext cx="0" cy="17928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374280" y="4643280"/>
                <a:ext cx="873000" cy="271440"/>
              </a:xfrm>
              <a:prstGeom prst="rect">
                <a:avLst/>
              </a:prstGeom>
              <a:noFill/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764520" y="4631760"/>
                <a:ext cx="1277280" cy="453960"/>
              </a:xfrm>
              <a:prstGeom prst="rect">
                <a:avLst/>
              </a:prstGeom>
              <a:noFill/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ienes vendido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3026520" y="3581280"/>
              <a:ext cx="848520" cy="641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ejo 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rdenes 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ien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085080" y="4588560"/>
              <a:ext cx="848520" cy="641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 Repor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887560" y="5316480"/>
              <a:ext cx="848520" cy="641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ejo 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r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amilia IDEFX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28720" y="2260080"/>
            <a:ext cx="7556400" cy="37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IDEFØ</a:t>
            </a: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Modelo de Actividad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IDEF1</a:t>
            </a: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Modelo de Informació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IDEF1x</a:t>
            </a: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Modelo de Dato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IDEF3</a:t>
            </a: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Modelo de Lógica de Procesos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IDEF4</a:t>
            </a: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Modelo Orientado a Objeto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IDEF5</a:t>
            </a: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Descripción Ontológic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IDEF9</a:t>
            </a: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Descubrimiento de Restricciones de Negocio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05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Mas información en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05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http://www.stsc.hill.af.mil/crosstalk/1995/06/IDEF.asp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IDEF0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Método desarrollado para modelar las decisiones, acciones y actividades de una organización o sistema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Se deriva del modelo de análisis estructurado ( DFD )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Mayor capacidad de análisis y comunicación de perspectiva funcional sistémica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Identifica actividades, requerimientos, cuales funcionan bien y cuales no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IDEF0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Actividades son representables a través de inputs, controls, mechanisms y output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Exposición gradual del detalle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Entre 3 y 6 actividades por nivel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752480" y="2743200"/>
            <a:ext cx="5943600" cy="22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5105520" y="1828800"/>
            <a:ext cx="35812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descomposición jerárquica de un proceso mues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ponentes que lo detal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557280" y="1698480"/>
            <a:ext cx="6635520" cy="4396680"/>
            <a:chOff x="557280" y="1698480"/>
            <a:chExt cx="6635520" cy="4396680"/>
          </a:xfrm>
        </p:grpSpPr>
        <p:grpSp>
          <p:nvGrpSpPr>
            <p:cNvPr id="112" name=""/>
            <p:cNvGrpSpPr/>
            <p:nvPr/>
          </p:nvGrpSpPr>
          <p:grpSpPr>
            <a:xfrm>
              <a:off x="863640" y="1933560"/>
              <a:ext cx="1843200" cy="939960"/>
              <a:chOff x="863640" y="1933560"/>
              <a:chExt cx="1843200" cy="939960"/>
            </a:xfrm>
          </p:grpSpPr>
          <p:sp>
            <p:nvSpPr>
              <p:cNvPr id="113" name=""/>
              <p:cNvSpPr/>
              <p:nvPr/>
            </p:nvSpPr>
            <p:spPr>
              <a:xfrm>
                <a:off x="863640" y="1933560"/>
                <a:ext cx="1843200" cy="93996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63640" y="1933560"/>
                <a:ext cx="1843200" cy="93996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63640" y="1933560"/>
                <a:ext cx="1843200" cy="93996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863640" y="1933560"/>
              <a:ext cx="1843200" cy="9399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040400" y="2278080"/>
              <a:ext cx="1535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Proceso Macr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1685880" y="2873520"/>
              <a:ext cx="84240" cy="352440"/>
              <a:chOff x="1685880" y="2873520"/>
              <a:chExt cx="84240" cy="352440"/>
            </a:xfrm>
          </p:grpSpPr>
          <p:sp>
            <p:nvSpPr>
              <p:cNvPr id="119" name=""/>
              <p:cNvSpPr/>
              <p:nvPr/>
            </p:nvSpPr>
            <p:spPr>
              <a:xfrm flipV="1">
                <a:off x="1724040" y="2932200"/>
                <a:ext cx="1440" cy="293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685880" y="2873520"/>
                <a:ext cx="84240" cy="72720"/>
              </a:xfrm>
              <a:custGeom>
                <a:avLst/>
                <a:gdLst/>
                <a:ahLst/>
                <a:rect l="l" t="t" r="r" b="b"/>
                <a:pathLst>
                  <a:path w="53" h="46">
                    <a:moveTo>
                      <a:pt x="53" y="46"/>
                    </a:moveTo>
                    <a:lnTo>
                      <a:pt x="24" y="0"/>
                    </a:lnTo>
                    <a:lnTo>
                      <a:pt x="0" y="46"/>
                    </a:lnTo>
                    <a:lnTo>
                      <a:pt x="53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557280" y="2367000"/>
              <a:ext cx="306360" cy="79200"/>
              <a:chOff x="557280" y="2367000"/>
              <a:chExt cx="306360" cy="79200"/>
            </a:xfrm>
          </p:grpSpPr>
          <p:sp>
            <p:nvSpPr>
              <p:cNvPr id="122" name=""/>
              <p:cNvSpPr/>
              <p:nvPr/>
            </p:nvSpPr>
            <p:spPr>
              <a:xfrm>
                <a:off x="557280" y="2403360"/>
                <a:ext cx="24444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787320" y="2367000"/>
                <a:ext cx="76320" cy="79200"/>
              </a:xfrm>
              <a:custGeom>
                <a:avLst/>
                <a:gdLst/>
                <a:ahLst/>
                <a:rect l="l" t="t" r="r" b="b"/>
                <a:pathLst>
                  <a:path w="48" h="50">
                    <a:moveTo>
                      <a:pt x="0" y="50"/>
                    </a:moveTo>
                    <a:lnTo>
                      <a:pt x="48" y="23"/>
                    </a:lnTo>
                    <a:lnTo>
                      <a:pt x="0" y="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1677960" y="1698480"/>
              <a:ext cx="84240" cy="235080"/>
              <a:chOff x="1677960" y="1698480"/>
              <a:chExt cx="84240" cy="235080"/>
            </a:xfrm>
          </p:grpSpPr>
          <p:sp>
            <p:nvSpPr>
              <p:cNvPr id="125" name=""/>
              <p:cNvSpPr/>
              <p:nvPr/>
            </p:nvSpPr>
            <p:spPr>
              <a:xfrm>
                <a:off x="1724040" y="1698480"/>
                <a:ext cx="1440" cy="1764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677960" y="1860480"/>
                <a:ext cx="84240" cy="73080"/>
              </a:xfrm>
              <a:custGeom>
                <a:avLst/>
                <a:gdLst/>
                <a:ahLst/>
                <a:rect l="l" t="t" r="r" b="b"/>
                <a:pathLst>
                  <a:path w="53" h="46">
                    <a:moveTo>
                      <a:pt x="0" y="0"/>
                    </a:moveTo>
                    <a:lnTo>
                      <a:pt x="29" y="46"/>
                    </a:lnTo>
                    <a:lnTo>
                      <a:pt x="5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2706840" y="2359080"/>
              <a:ext cx="369360" cy="81000"/>
              <a:chOff x="2706840" y="2359080"/>
              <a:chExt cx="369360" cy="81000"/>
            </a:xfrm>
          </p:grpSpPr>
          <p:sp>
            <p:nvSpPr>
              <p:cNvPr id="128" name=""/>
              <p:cNvSpPr/>
              <p:nvPr/>
            </p:nvSpPr>
            <p:spPr>
              <a:xfrm flipH="1">
                <a:off x="2768400" y="2403360"/>
                <a:ext cx="30780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706840" y="2359080"/>
                <a:ext cx="77760" cy="81000"/>
              </a:xfrm>
              <a:custGeom>
                <a:avLst/>
                <a:gdLst/>
                <a:ahLst/>
                <a:rect l="l" t="t" r="r" b="b"/>
                <a:pathLst>
                  <a:path w="49" h="51">
                    <a:moveTo>
                      <a:pt x="49" y="0"/>
                    </a:moveTo>
                    <a:lnTo>
                      <a:pt x="0" y="28"/>
                    </a:lnTo>
                    <a:lnTo>
                      <a:pt x="49" y="51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554200" y="3452760"/>
              <a:ext cx="468360" cy="322200"/>
            </a:xfrm>
            <a:prstGeom prst="rect">
              <a:avLst/>
            </a:prstGeom>
            <a:solidFill>
              <a:srgbClr val="a3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554200" y="3452760"/>
              <a:ext cx="468360" cy="322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554200" y="3452760"/>
              <a:ext cx="468360" cy="322200"/>
            </a:xfrm>
            <a:prstGeom prst="rect">
              <a:avLst/>
            </a:prstGeom>
            <a:solidFill>
              <a:srgbClr val="a3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554200" y="3452760"/>
              <a:ext cx="468360" cy="32220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429000" y="3724200"/>
              <a:ext cx="468360" cy="381240"/>
            </a:xfrm>
            <a:prstGeom prst="rect">
              <a:avLst/>
            </a:prstGeom>
            <a:solidFill>
              <a:srgbClr val="a3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429000" y="3724200"/>
              <a:ext cx="468360" cy="3812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429000" y="3724200"/>
              <a:ext cx="468360" cy="381240"/>
            </a:xfrm>
            <a:prstGeom prst="rect">
              <a:avLst/>
            </a:prstGeom>
            <a:solidFill>
              <a:srgbClr val="a3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29000" y="3724200"/>
              <a:ext cx="468360" cy="38124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243320" y="3995640"/>
              <a:ext cx="584280" cy="433440"/>
            </a:xfrm>
            <a:prstGeom prst="rect">
              <a:avLst/>
            </a:prstGeom>
            <a:solidFill>
              <a:srgbClr val="a3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243320" y="3995640"/>
              <a:ext cx="584280" cy="4334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243320" y="3995640"/>
              <a:ext cx="584280" cy="433440"/>
            </a:xfrm>
            <a:prstGeom prst="rect">
              <a:avLst/>
            </a:prstGeom>
            <a:solidFill>
              <a:srgbClr val="a3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43320" y="3995640"/>
              <a:ext cx="584280" cy="43344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38280" y="3181320"/>
              <a:ext cx="2627280" cy="1409760"/>
            </a:xfrm>
            <a:prstGeom prst="rect">
              <a:avLst/>
            </a:prstGeom>
            <a:noFill/>
            <a:ln w="79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31840" y="2857680"/>
              <a:ext cx="406440" cy="12477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031840" y="2857680"/>
              <a:ext cx="1981440" cy="323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2146320" y="3578400"/>
              <a:ext cx="407880" cy="79200"/>
              <a:chOff x="2146320" y="3578400"/>
              <a:chExt cx="407880" cy="79200"/>
            </a:xfrm>
          </p:grpSpPr>
          <p:sp>
            <p:nvSpPr>
              <p:cNvPr id="146" name=""/>
              <p:cNvSpPr/>
              <p:nvPr/>
            </p:nvSpPr>
            <p:spPr>
              <a:xfrm>
                <a:off x="2146320" y="3614760"/>
                <a:ext cx="345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476440" y="3578400"/>
                <a:ext cx="77760" cy="79200"/>
              </a:xfrm>
              <a:custGeom>
                <a:avLst/>
                <a:gdLst/>
                <a:ahLst/>
                <a:rect l="l" t="t" r="r" b="b"/>
                <a:pathLst>
                  <a:path w="49" h="50">
                    <a:moveTo>
                      <a:pt x="0" y="50"/>
                    </a:moveTo>
                    <a:lnTo>
                      <a:pt x="49" y="23"/>
                    </a:lnTo>
                    <a:lnTo>
                      <a:pt x="0" y="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3252960" y="3849840"/>
              <a:ext cx="176040" cy="80640"/>
              <a:chOff x="3252960" y="3849840"/>
              <a:chExt cx="176040" cy="80640"/>
            </a:xfrm>
          </p:grpSpPr>
          <p:sp>
            <p:nvSpPr>
              <p:cNvPr id="149" name=""/>
              <p:cNvSpPr/>
              <p:nvPr/>
            </p:nvSpPr>
            <p:spPr>
              <a:xfrm>
                <a:off x="3252960" y="3886200"/>
                <a:ext cx="1141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352680" y="3849840"/>
                <a:ext cx="76320" cy="80640"/>
              </a:xfrm>
              <a:custGeom>
                <a:avLst/>
                <a:gdLst/>
                <a:ahLst/>
                <a:rect l="l" t="t" r="r" b="b"/>
                <a:pathLst>
                  <a:path w="48" h="51">
                    <a:moveTo>
                      <a:pt x="0" y="51"/>
                    </a:moveTo>
                    <a:lnTo>
                      <a:pt x="48" y="23"/>
                    </a:lnTo>
                    <a:lnTo>
                      <a:pt x="0" y="0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4127400" y="4179960"/>
              <a:ext cx="115920" cy="81000"/>
              <a:chOff x="4127400" y="4179960"/>
              <a:chExt cx="115920" cy="81000"/>
            </a:xfrm>
          </p:grpSpPr>
          <p:sp>
            <p:nvSpPr>
              <p:cNvPr id="152" name=""/>
              <p:cNvSpPr/>
              <p:nvPr/>
            </p:nvSpPr>
            <p:spPr>
              <a:xfrm>
                <a:off x="4127400" y="4216320"/>
                <a:ext cx="5400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167360" y="4179960"/>
                <a:ext cx="75960" cy="81000"/>
              </a:xfrm>
              <a:custGeom>
                <a:avLst/>
                <a:gdLst/>
                <a:ahLst/>
                <a:rect l="l" t="t" r="r" b="b"/>
                <a:pathLst>
                  <a:path w="48" h="51">
                    <a:moveTo>
                      <a:pt x="0" y="51"/>
                    </a:moveTo>
                    <a:lnTo>
                      <a:pt x="48" y="23"/>
                    </a:lnTo>
                    <a:lnTo>
                      <a:pt x="0" y="0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3022560" y="3614760"/>
              <a:ext cx="2304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52960" y="3614760"/>
              <a:ext cx="1440" cy="27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97360" y="3886200"/>
              <a:ext cx="2300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27400" y="3886200"/>
              <a:ext cx="1800" cy="330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3559320" y="2638440"/>
              <a:ext cx="85680" cy="1085760"/>
              <a:chOff x="3559320" y="2638440"/>
              <a:chExt cx="85680" cy="1085760"/>
            </a:xfrm>
          </p:grpSpPr>
          <p:sp>
            <p:nvSpPr>
              <p:cNvPr id="159" name=""/>
              <p:cNvSpPr/>
              <p:nvPr/>
            </p:nvSpPr>
            <p:spPr>
              <a:xfrm>
                <a:off x="3605040" y="2638440"/>
                <a:ext cx="1800" cy="1027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559320" y="3651120"/>
                <a:ext cx="85680" cy="73080"/>
              </a:xfrm>
              <a:custGeom>
                <a:avLst/>
                <a:gdLst/>
                <a:ahLst/>
                <a:rect l="l" t="t" r="r" b="b"/>
                <a:pathLst>
                  <a:path w="54" h="46">
                    <a:moveTo>
                      <a:pt x="0" y="0"/>
                    </a:moveTo>
                    <a:lnTo>
                      <a:pt x="29" y="46"/>
                    </a:lnTo>
                    <a:lnTo>
                      <a:pt x="5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4489560" y="3452760"/>
              <a:ext cx="83880" cy="542880"/>
              <a:chOff x="4489560" y="3452760"/>
              <a:chExt cx="83880" cy="542880"/>
            </a:xfrm>
          </p:grpSpPr>
          <p:sp>
            <p:nvSpPr>
              <p:cNvPr id="162" name=""/>
              <p:cNvSpPr/>
              <p:nvPr/>
            </p:nvSpPr>
            <p:spPr>
              <a:xfrm>
                <a:off x="4535640" y="3452760"/>
                <a:ext cx="1440" cy="4842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489560" y="3922560"/>
                <a:ext cx="83880" cy="73080"/>
              </a:xfrm>
              <a:custGeom>
                <a:avLst/>
                <a:gdLst/>
                <a:ahLst/>
                <a:rect l="l" t="t" r="r" b="b"/>
                <a:pathLst>
                  <a:path w="53" h="46">
                    <a:moveTo>
                      <a:pt x="0" y="0"/>
                    </a:moveTo>
                    <a:lnTo>
                      <a:pt x="29" y="46"/>
                    </a:lnTo>
                    <a:lnTo>
                      <a:pt x="5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3621240" y="4105440"/>
              <a:ext cx="83880" cy="704520"/>
              <a:chOff x="3621240" y="4105440"/>
              <a:chExt cx="83880" cy="704520"/>
            </a:xfrm>
          </p:grpSpPr>
          <p:sp>
            <p:nvSpPr>
              <p:cNvPr id="165" name=""/>
              <p:cNvSpPr/>
              <p:nvPr/>
            </p:nvSpPr>
            <p:spPr>
              <a:xfrm flipV="1">
                <a:off x="3659040" y="4164120"/>
                <a:ext cx="1800" cy="645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621240" y="4105440"/>
                <a:ext cx="83880" cy="74520"/>
              </a:xfrm>
              <a:custGeom>
                <a:avLst/>
                <a:gdLst/>
                <a:ahLst/>
                <a:rect l="l" t="t" r="r" b="b"/>
                <a:pathLst>
                  <a:path w="53" h="47">
                    <a:moveTo>
                      <a:pt x="53" y="47"/>
                    </a:moveTo>
                    <a:lnTo>
                      <a:pt x="24" y="0"/>
                    </a:lnTo>
                    <a:lnTo>
                      <a:pt x="0" y="47"/>
                    </a:lnTo>
                    <a:lnTo>
                      <a:pt x="53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4827600" y="4179960"/>
              <a:ext cx="582480" cy="81000"/>
              <a:chOff x="4827600" y="4179960"/>
              <a:chExt cx="582480" cy="81000"/>
            </a:xfrm>
          </p:grpSpPr>
          <p:sp>
            <p:nvSpPr>
              <p:cNvPr id="168" name=""/>
              <p:cNvSpPr/>
              <p:nvPr/>
            </p:nvSpPr>
            <p:spPr>
              <a:xfrm>
                <a:off x="4827600" y="4216320"/>
                <a:ext cx="5223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334120" y="4179960"/>
                <a:ext cx="75960" cy="81000"/>
              </a:xfrm>
              <a:custGeom>
                <a:avLst/>
                <a:gdLst/>
                <a:ahLst/>
                <a:rect l="l" t="t" r="r" b="b"/>
                <a:pathLst>
                  <a:path w="48" h="51">
                    <a:moveTo>
                      <a:pt x="0" y="51"/>
                    </a:moveTo>
                    <a:lnTo>
                      <a:pt x="48" y="23"/>
                    </a:lnTo>
                    <a:lnTo>
                      <a:pt x="0" y="0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4219560" y="4532400"/>
              <a:ext cx="2627280" cy="140796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335480" y="4803840"/>
              <a:ext cx="468360" cy="322200"/>
            </a:xfrm>
            <a:prstGeom prst="rect">
              <a:avLst/>
            </a:prstGeom>
            <a:solidFill>
              <a:srgbClr val="a3b2c1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Verdana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211720" y="5075280"/>
              <a:ext cx="468360" cy="380880"/>
            </a:xfrm>
            <a:prstGeom prst="rect">
              <a:avLst/>
            </a:prstGeom>
            <a:solidFill>
              <a:srgbClr val="a3b2c1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Verdana"/>
                </a:rPr>
                <a:t>2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026040" y="5346720"/>
              <a:ext cx="582840" cy="433440"/>
            </a:xfrm>
            <a:prstGeom prst="rect">
              <a:avLst/>
            </a:prstGeom>
            <a:solidFill>
              <a:srgbClr val="a3b2c1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Verdana"/>
                </a:rPr>
                <a:t>2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13120" y="4105440"/>
              <a:ext cx="378000" cy="1533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813120" y="4105440"/>
              <a:ext cx="430200" cy="411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3929040" y="4927680"/>
              <a:ext cx="406440" cy="81000"/>
              <a:chOff x="3929040" y="4927680"/>
              <a:chExt cx="406440" cy="81000"/>
            </a:xfrm>
          </p:grpSpPr>
          <p:sp>
            <p:nvSpPr>
              <p:cNvPr id="177" name=""/>
              <p:cNvSpPr/>
              <p:nvPr/>
            </p:nvSpPr>
            <p:spPr>
              <a:xfrm>
                <a:off x="3929040" y="4964040"/>
                <a:ext cx="34452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259160" y="4927680"/>
                <a:ext cx="76320" cy="81000"/>
              </a:xfrm>
              <a:custGeom>
                <a:avLst/>
                <a:gdLst/>
                <a:ahLst/>
                <a:rect l="l" t="t" r="r" b="b"/>
                <a:pathLst>
                  <a:path w="48" h="51">
                    <a:moveTo>
                      <a:pt x="0" y="51"/>
                    </a:moveTo>
                    <a:lnTo>
                      <a:pt x="48" y="23"/>
                    </a:lnTo>
                    <a:lnTo>
                      <a:pt x="0" y="0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5033880" y="5199120"/>
              <a:ext cx="177840" cy="81000"/>
              <a:chOff x="5033880" y="5199120"/>
              <a:chExt cx="177840" cy="81000"/>
            </a:xfrm>
          </p:grpSpPr>
          <p:sp>
            <p:nvSpPr>
              <p:cNvPr id="180" name=""/>
              <p:cNvSpPr/>
              <p:nvPr/>
            </p:nvSpPr>
            <p:spPr>
              <a:xfrm>
                <a:off x="5033880" y="5237280"/>
                <a:ext cx="115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133960" y="5199120"/>
                <a:ext cx="77760" cy="81000"/>
              </a:xfrm>
              <a:custGeom>
                <a:avLst/>
                <a:gdLst/>
                <a:ahLst/>
                <a:rect l="l" t="t" r="r" b="b"/>
                <a:pathLst>
                  <a:path w="49" h="51">
                    <a:moveTo>
                      <a:pt x="0" y="51"/>
                    </a:moveTo>
                    <a:lnTo>
                      <a:pt x="49" y="24"/>
                    </a:lnTo>
                    <a:lnTo>
                      <a:pt x="0" y="0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5910120" y="5529240"/>
              <a:ext cx="115920" cy="81000"/>
              <a:chOff x="5910120" y="5529240"/>
              <a:chExt cx="115920" cy="81000"/>
            </a:xfrm>
          </p:grpSpPr>
          <p:sp>
            <p:nvSpPr>
              <p:cNvPr id="183" name=""/>
              <p:cNvSpPr/>
              <p:nvPr/>
            </p:nvSpPr>
            <p:spPr>
              <a:xfrm>
                <a:off x="5910120" y="5567400"/>
                <a:ext cx="54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948280" y="5529240"/>
                <a:ext cx="77760" cy="81000"/>
              </a:xfrm>
              <a:custGeom>
                <a:avLst/>
                <a:gdLst/>
                <a:ahLst/>
                <a:rect l="l" t="t" r="r" b="b"/>
                <a:pathLst>
                  <a:path w="49" h="51">
                    <a:moveTo>
                      <a:pt x="0" y="51"/>
                    </a:moveTo>
                    <a:lnTo>
                      <a:pt x="49" y="24"/>
                    </a:lnTo>
                    <a:lnTo>
                      <a:pt x="0" y="0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4803840" y="4964040"/>
              <a:ext cx="2300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033880" y="4964040"/>
              <a:ext cx="1800" cy="27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680080" y="5237280"/>
              <a:ext cx="2300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910120" y="5237280"/>
              <a:ext cx="1800" cy="330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" name=""/>
            <p:cNvGrpSpPr/>
            <p:nvPr/>
          </p:nvGrpSpPr>
          <p:grpSpPr>
            <a:xfrm>
              <a:off x="5342040" y="3987720"/>
              <a:ext cx="83880" cy="1087560"/>
              <a:chOff x="5342040" y="3987720"/>
              <a:chExt cx="83880" cy="1087560"/>
            </a:xfrm>
          </p:grpSpPr>
          <p:sp>
            <p:nvSpPr>
              <p:cNvPr id="190" name=""/>
              <p:cNvSpPr/>
              <p:nvPr/>
            </p:nvSpPr>
            <p:spPr>
              <a:xfrm>
                <a:off x="5388120" y="3987720"/>
                <a:ext cx="1440" cy="1028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342040" y="5002200"/>
                <a:ext cx="83880" cy="73080"/>
              </a:xfrm>
              <a:custGeom>
                <a:avLst/>
                <a:gdLst/>
                <a:ahLst/>
                <a:rect l="l" t="t" r="r" b="b"/>
                <a:pathLst>
                  <a:path w="53" h="46">
                    <a:moveTo>
                      <a:pt x="0" y="0"/>
                    </a:moveTo>
                    <a:lnTo>
                      <a:pt x="29" y="46"/>
                    </a:lnTo>
                    <a:lnTo>
                      <a:pt x="5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6270480" y="4803840"/>
              <a:ext cx="86040" cy="542880"/>
              <a:chOff x="6270480" y="4803840"/>
              <a:chExt cx="86040" cy="542880"/>
            </a:xfrm>
          </p:grpSpPr>
          <p:sp>
            <p:nvSpPr>
              <p:cNvPr id="193" name=""/>
              <p:cNvSpPr/>
              <p:nvPr/>
            </p:nvSpPr>
            <p:spPr>
              <a:xfrm>
                <a:off x="6316560" y="4803840"/>
                <a:ext cx="1800" cy="4842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270480" y="5273640"/>
                <a:ext cx="86040" cy="73080"/>
              </a:xfrm>
              <a:custGeom>
                <a:avLst/>
                <a:gdLst/>
                <a:ahLst/>
                <a:rect l="l" t="t" r="r" b="b"/>
                <a:pathLst>
                  <a:path w="54" h="46">
                    <a:moveTo>
                      <a:pt x="0" y="0"/>
                    </a:moveTo>
                    <a:lnTo>
                      <a:pt x="29" y="46"/>
                    </a:lnTo>
                    <a:lnTo>
                      <a:pt x="5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5410080" y="5456160"/>
              <a:ext cx="77760" cy="639000"/>
              <a:chOff x="5410080" y="5456160"/>
              <a:chExt cx="77760" cy="639000"/>
            </a:xfrm>
          </p:grpSpPr>
          <p:sp>
            <p:nvSpPr>
              <p:cNvPr id="196" name=""/>
              <p:cNvSpPr/>
              <p:nvPr/>
            </p:nvSpPr>
            <p:spPr>
              <a:xfrm flipV="1">
                <a:off x="5445360" y="5508720"/>
                <a:ext cx="1080" cy="586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410080" y="5456160"/>
                <a:ext cx="77760" cy="66240"/>
              </a:xfrm>
              <a:custGeom>
                <a:avLst/>
                <a:gdLst/>
                <a:ahLst/>
                <a:rect l="l" t="t" r="r" b="b"/>
                <a:pathLst>
                  <a:path w="53" h="46">
                    <a:moveTo>
                      <a:pt x="53" y="46"/>
                    </a:moveTo>
                    <a:lnTo>
                      <a:pt x="24" y="0"/>
                    </a:lnTo>
                    <a:lnTo>
                      <a:pt x="0" y="46"/>
                    </a:lnTo>
                    <a:lnTo>
                      <a:pt x="53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6608880" y="5529240"/>
              <a:ext cx="583920" cy="81000"/>
              <a:chOff x="6608880" y="5529240"/>
              <a:chExt cx="583920" cy="81000"/>
            </a:xfrm>
          </p:grpSpPr>
          <p:sp>
            <p:nvSpPr>
              <p:cNvPr id="199" name=""/>
              <p:cNvSpPr/>
              <p:nvPr/>
            </p:nvSpPr>
            <p:spPr>
              <a:xfrm>
                <a:off x="6608880" y="5567400"/>
                <a:ext cx="522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116840" y="5529240"/>
                <a:ext cx="75960" cy="81000"/>
              </a:xfrm>
              <a:custGeom>
                <a:avLst/>
                <a:gdLst/>
                <a:ahLst/>
                <a:rect l="l" t="t" r="r" b="b"/>
                <a:pathLst>
                  <a:path w="48" h="51">
                    <a:moveTo>
                      <a:pt x="0" y="51"/>
                    </a:moveTo>
                    <a:lnTo>
                      <a:pt x="48" y="24"/>
                    </a:lnTo>
                    <a:lnTo>
                      <a:pt x="0" y="0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Lucida Sans"/>
              </a:rPr>
              <a:t>IDEF0: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Lucida Sans"/>
              </a:rPr>
              <a:t>Descomposición Jerárquica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IDEF0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Algunas reglas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Numero de actividades por nivel de descomposición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Diagrama de contexto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Contexto acotado a medioambiente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Nombres únicos para actividade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No existe especificación temporal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AIO WI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BPWI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IDEF0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Modelamiento para el caso de una empres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Niveles superiores: Visión gerencial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Niveles inferiores: Conocimiento de operario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Recomendacion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Enfoque Top-Down: Cuando se diseña la arquitectura funcional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Enfoque Bottom-Up: Cuando la empresa esta siendo analizada y modelada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BPWIN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Disponible en u-curso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5105520" y="1600200"/>
          <a:ext cx="4038480" cy="452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05520" y="1600200"/>
                    <a:ext cx="403848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755640" y="2276640"/>
            <a:ext cx="7885080" cy="400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609480" y="609480"/>
            <a:ext cx="47977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"/>
              </a:rPr>
              <a:t>Abastecimien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Solicit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Comp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Entre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Inven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"/>
              </a:rPr>
              <a:t>Administración de Proyectos Solicitu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Cont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Atención Post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Ejemplos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Agenda 3 Agosto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Sobre el curso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Importancia de los proceso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Técnicas de modelamiento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IDEF 0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BPWI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Ejemplo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Caso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IDEF0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Fortalezas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Efectivo para detallar actividades del sistema y comunicarla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Actividades pueden ser descritas al nivel deseado para tomar decisione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IDEF0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Debilidades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Modelos pueden ser muy concisos y ser solo entendidos por expertos de área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Tendencia a interpretar los modelos en IDEF0 como una representación de una secuencia de actividade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Abstracción requerida complica interpretación de externo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En IDEF0, no es posible identificar al Client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Lucida Sans"/>
              </a:rPr>
              <a:t>Patrones de Procesos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Lucida Sans"/>
              </a:rPr>
              <a:t>de Negocios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Profesor Oscar Barro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Patrones Normativo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"/>
              </a:rPr>
              <a:t>Incorporan mejores pr</a:t>
            </a:r>
            <a:r>
              <a:rPr b="0" lang="es-MX" sz="2000" spc="-1" strike="noStrike">
                <a:solidFill>
                  <a:srgbClr val="000000"/>
                </a:solidFill>
                <a:latin typeface="Lucida Sans"/>
              </a:rPr>
              <a:t>áctica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Lucida Sans"/>
              </a:rPr>
              <a:t>Prácticas de trabajo utilizadas por las empresas líderes en sus rubros, a nivel mundia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"/>
              </a:rPr>
              <a:t>Distinguen procesos en áreas cómo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Lucida Sans"/>
              </a:rPr>
              <a:t>Relaciones con agent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"/>
              </a:rPr>
              <a:t>Gestió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"/>
              </a:rPr>
              <a:t>Operaciones y Logíst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"/>
              </a:rPr>
              <a:t>Mantención de Estado (información consolidada del sistema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Lucida Sans"/>
              </a:rPr>
              <a:t>Macroprocesos de una Empresa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rcRect l="6349" t="15705" r="4688" b="22046"/>
          <a:stretch/>
        </p:blipFill>
        <p:spPr>
          <a:xfrm>
            <a:off x="326880" y="1728720"/>
            <a:ext cx="8677440" cy="441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Lucida Sans"/>
              </a:rPr>
              <a:t>Macro 1: Gestión, Producción y Provisión Bien o Servicio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70102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"/>
              </a:rPr>
              <a:t>Departamento de Ingeniería Industria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"/>
              </a:rPr>
              <a:t>Derechos Reservados ©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Lucida Sans"/>
              </a:rPr>
              <a:t>Macro 1: Gestión, Producción y Provisión Bien o Servicio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8348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Administración relación con el client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19960" indent="-22392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Lucida Sans"/>
              </a:rPr>
              <a:t>Marketing y análisis mercado</a:t>
            </a:r>
            <a:endParaRPr b="0" lang="en-US" sz="1700" spc="-1" strike="noStrike">
              <a:solidFill>
                <a:srgbClr val="000000"/>
              </a:solidFill>
              <a:latin typeface="Lucida Sans"/>
            </a:endParaRPr>
          </a:p>
          <a:p>
            <a:pPr lvl="2" marL="1119960" indent="-22392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Lucida Sans"/>
              </a:rPr>
              <a:t>Venta y atención al cliente</a:t>
            </a:r>
            <a:endParaRPr b="0" lang="en-US" sz="1700" spc="-1" strike="noStrike">
              <a:solidFill>
                <a:srgbClr val="000000"/>
              </a:solidFill>
              <a:latin typeface="Lucida Sans"/>
            </a:endParaRPr>
          </a:p>
          <a:p>
            <a:pPr lvl="2" marL="1119960" indent="-22392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Lucida Sans"/>
              </a:rPr>
              <a:t>Decidir satisfacción requerimientos</a:t>
            </a:r>
            <a:endParaRPr b="0" lang="en-US" sz="17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Administración relación con proveedor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Gestión producción y entreg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19960" indent="-22392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Lucida Sans"/>
              </a:rPr>
              <a:t>Implementación nuevos productos y servicios</a:t>
            </a:r>
            <a:endParaRPr b="0" lang="en-US" sz="1700" spc="-1" strike="noStrike">
              <a:solidFill>
                <a:srgbClr val="000000"/>
              </a:solidFill>
              <a:latin typeface="Lucida Sans"/>
            </a:endParaRPr>
          </a:p>
          <a:p>
            <a:pPr lvl="2" marL="1119960" indent="-22392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Lucida Sans"/>
              </a:rPr>
              <a:t>Planificación y control producción</a:t>
            </a:r>
            <a:endParaRPr b="0" lang="en-US" sz="1700" spc="-1" strike="noStrike">
              <a:solidFill>
                <a:srgbClr val="000000"/>
              </a:solidFill>
              <a:latin typeface="Lucida Sans"/>
            </a:endParaRPr>
          </a:p>
          <a:p>
            <a:pPr lvl="2" marL="1119960" indent="-22392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Lucida Sans"/>
              </a:rPr>
              <a:t>Decidir entrega producto o servicio</a:t>
            </a:r>
            <a:endParaRPr b="0" lang="en-US" sz="17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Producción y entrega bien o servicio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19960" indent="-22392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Lucida Sans"/>
              </a:rPr>
              <a:t>Producción</a:t>
            </a:r>
            <a:endParaRPr b="0" lang="en-US" sz="1700" spc="-1" strike="noStrike">
              <a:solidFill>
                <a:srgbClr val="000000"/>
              </a:solidFill>
              <a:latin typeface="Lucida Sans"/>
            </a:endParaRPr>
          </a:p>
          <a:p>
            <a:pPr lvl="2" marL="1119960" indent="-22392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Lucida Sans"/>
              </a:rPr>
              <a:t>Entrega</a:t>
            </a:r>
            <a:endParaRPr b="0" lang="en-US" sz="17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Mantención estado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2"/>
          <a:srcRect l="4688" t="14551" r="4688" b="27939"/>
          <a:stretch/>
        </p:blipFill>
        <p:spPr>
          <a:xfrm>
            <a:off x="101520" y="1735200"/>
            <a:ext cx="8991720" cy="428292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Lucida Sans"/>
              </a:rPr>
              <a:t>Macro 1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2"/>
          <a:srcRect l="4703" t="5757" r="4670" b="10822"/>
          <a:stretch/>
        </p:blipFill>
        <p:spPr>
          <a:xfrm>
            <a:off x="0" y="476280"/>
            <a:ext cx="9144000" cy="597384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4200" y="23241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cc"/>
                </a:solidFill>
                <a:latin typeface="Copperplate30ab"/>
              </a:rPr>
              <a:t>A0</a:t>
            </a:r>
            <a:endParaRPr b="0" lang="en-US" sz="4400" spc="-1" strike="noStrike">
              <a:solidFill>
                <a:srgbClr val="000000"/>
              </a:solidFill>
              <a:latin typeface="Copperplate30ab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2"/>
          <a:srcRect l="7099" t="9074" r="4703" b="10710"/>
          <a:stretch/>
        </p:blipFill>
        <p:spPr>
          <a:xfrm>
            <a:off x="0" y="476280"/>
            <a:ext cx="9144000" cy="582120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280" y="2349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cc"/>
                </a:solidFill>
                <a:latin typeface="Copperplate30ab"/>
              </a:rPr>
              <a:t>A0.1</a:t>
            </a:r>
            <a:endParaRPr b="0" lang="en-US" sz="4400" spc="-1" strike="noStrike">
              <a:solidFill>
                <a:srgbClr val="000000"/>
              </a:solidFill>
              <a:latin typeface="Copperplate30ab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2"/>
          <a:srcRect l="17121" t="9252" r="4688" b="10527"/>
          <a:stretch/>
        </p:blipFill>
        <p:spPr>
          <a:xfrm>
            <a:off x="0" y="476280"/>
            <a:ext cx="9144000" cy="593244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74200" y="23241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cc"/>
                </a:solidFill>
                <a:latin typeface="Copperplate30ab"/>
              </a:rPr>
              <a:t>A0.3</a:t>
            </a:r>
            <a:endParaRPr b="0" lang="en-US" sz="4400" spc="-1" strike="noStrike">
              <a:solidFill>
                <a:srgbClr val="000000"/>
              </a:solidFill>
              <a:latin typeface="Copperplate30ab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Sobre el curso…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Proyecto semestral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Regla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Primera entrega: Martes 9 de Agosto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Medios de comunicación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Cátedras (75% asistencia) y auxiliar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U-curso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Modalidad auxiliar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Aplicacion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Participació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2"/>
          <a:srcRect l="12548" t="12748" r="4703" b="10888"/>
          <a:stretch/>
        </p:blipFill>
        <p:spPr>
          <a:xfrm>
            <a:off x="0" y="476280"/>
            <a:ext cx="9144000" cy="569916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74200" y="23241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cc"/>
                </a:solidFill>
                <a:latin typeface="Copperplate30ab"/>
              </a:rPr>
              <a:t>A0.4</a:t>
            </a:r>
            <a:endParaRPr b="0" lang="en-US" sz="4400" spc="-1" strike="noStrike">
              <a:solidFill>
                <a:srgbClr val="000000"/>
              </a:solidFill>
              <a:latin typeface="Copperplate30ab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Caso Banco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¿ Qué funciones están involucradas?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¿ Qué proceso estamos estudiando ?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¿Qué información rescata el modelo?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¿Qué información no logra rescatar?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5257800" y="2819520"/>
            <a:ext cx="3733920" cy="2971800"/>
            <a:chOff x="5257800" y="2819520"/>
            <a:chExt cx="3733920" cy="2971800"/>
          </a:xfrm>
        </p:grpSpPr>
        <p:sp>
          <p:nvSpPr>
            <p:cNvPr id="239" name=""/>
            <p:cNvSpPr/>
            <p:nvPr/>
          </p:nvSpPr>
          <p:spPr>
            <a:xfrm>
              <a:off x="5334120" y="2819520"/>
              <a:ext cx="3581280" cy="2971800"/>
            </a:xfrm>
            <a:prstGeom prst="triangle">
              <a:avLst>
                <a:gd name="adj" fmla="val 50000"/>
              </a:avLst>
            </a:prstGeom>
            <a:solidFill>
              <a:srgbClr val="ff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257800" y="4648320"/>
              <a:ext cx="3733920" cy="1066680"/>
            </a:xfrm>
            <a:custGeom>
              <a:avLst/>
              <a:gdLst/>
              <a:ahLst/>
              <a:rect l="l" t="t" r="r" b="b"/>
              <a:pathLst>
                <a:path w="3159" h="2064">
                  <a:moveTo>
                    <a:pt x="0" y="2063"/>
                  </a:moveTo>
                  <a:lnTo>
                    <a:pt x="100" y="2037"/>
                  </a:lnTo>
                  <a:lnTo>
                    <a:pt x="142" y="2017"/>
                  </a:lnTo>
                  <a:lnTo>
                    <a:pt x="192" y="1992"/>
                  </a:lnTo>
                  <a:lnTo>
                    <a:pt x="227" y="1959"/>
                  </a:lnTo>
                  <a:lnTo>
                    <a:pt x="268" y="1914"/>
                  </a:lnTo>
                  <a:lnTo>
                    <a:pt x="302" y="1862"/>
                  </a:lnTo>
                  <a:lnTo>
                    <a:pt x="327" y="1791"/>
                  </a:lnTo>
                  <a:lnTo>
                    <a:pt x="335" y="1746"/>
                  </a:lnTo>
                  <a:lnTo>
                    <a:pt x="344" y="1695"/>
                  </a:lnTo>
                  <a:lnTo>
                    <a:pt x="344" y="1636"/>
                  </a:lnTo>
                  <a:lnTo>
                    <a:pt x="352" y="1572"/>
                  </a:lnTo>
                  <a:lnTo>
                    <a:pt x="352" y="1436"/>
                  </a:lnTo>
                  <a:lnTo>
                    <a:pt x="344" y="1287"/>
                  </a:lnTo>
                  <a:lnTo>
                    <a:pt x="344" y="1139"/>
                  </a:lnTo>
                  <a:lnTo>
                    <a:pt x="344" y="1003"/>
                  </a:lnTo>
                  <a:lnTo>
                    <a:pt x="352" y="944"/>
                  </a:lnTo>
                  <a:lnTo>
                    <a:pt x="352" y="886"/>
                  </a:lnTo>
                  <a:lnTo>
                    <a:pt x="369" y="840"/>
                  </a:lnTo>
                  <a:lnTo>
                    <a:pt x="377" y="802"/>
                  </a:lnTo>
                  <a:lnTo>
                    <a:pt x="394" y="769"/>
                  </a:lnTo>
                  <a:lnTo>
                    <a:pt x="410" y="750"/>
                  </a:lnTo>
                  <a:lnTo>
                    <a:pt x="436" y="731"/>
                  </a:lnTo>
                  <a:lnTo>
                    <a:pt x="461" y="724"/>
                  </a:lnTo>
                  <a:lnTo>
                    <a:pt x="511" y="717"/>
                  </a:lnTo>
                  <a:lnTo>
                    <a:pt x="569" y="717"/>
                  </a:lnTo>
                  <a:lnTo>
                    <a:pt x="636" y="724"/>
                  </a:lnTo>
                  <a:lnTo>
                    <a:pt x="696" y="731"/>
                  </a:lnTo>
                  <a:lnTo>
                    <a:pt x="754" y="717"/>
                  </a:lnTo>
                  <a:lnTo>
                    <a:pt x="788" y="711"/>
                  </a:lnTo>
                  <a:lnTo>
                    <a:pt x="813" y="692"/>
                  </a:lnTo>
                  <a:lnTo>
                    <a:pt x="838" y="673"/>
                  </a:lnTo>
                  <a:lnTo>
                    <a:pt x="871" y="640"/>
                  </a:lnTo>
                  <a:lnTo>
                    <a:pt x="921" y="569"/>
                  </a:lnTo>
                  <a:lnTo>
                    <a:pt x="971" y="479"/>
                  </a:lnTo>
                  <a:lnTo>
                    <a:pt x="1030" y="388"/>
                  </a:lnTo>
                  <a:lnTo>
                    <a:pt x="1080" y="310"/>
                  </a:lnTo>
                  <a:lnTo>
                    <a:pt x="1105" y="272"/>
                  </a:lnTo>
                  <a:lnTo>
                    <a:pt x="1130" y="239"/>
                  </a:lnTo>
                  <a:lnTo>
                    <a:pt x="1165" y="220"/>
                  </a:lnTo>
                  <a:lnTo>
                    <a:pt x="1190" y="201"/>
                  </a:lnTo>
                  <a:lnTo>
                    <a:pt x="1223" y="194"/>
                  </a:lnTo>
                  <a:lnTo>
                    <a:pt x="1248" y="201"/>
                  </a:lnTo>
                  <a:lnTo>
                    <a:pt x="1282" y="220"/>
                  </a:lnTo>
                  <a:lnTo>
                    <a:pt x="1315" y="253"/>
                  </a:lnTo>
                  <a:lnTo>
                    <a:pt x="1349" y="297"/>
                  </a:lnTo>
                  <a:lnTo>
                    <a:pt x="1382" y="355"/>
                  </a:lnTo>
                  <a:lnTo>
                    <a:pt x="1424" y="414"/>
                  </a:lnTo>
                  <a:lnTo>
                    <a:pt x="1457" y="485"/>
                  </a:lnTo>
                  <a:lnTo>
                    <a:pt x="1532" y="634"/>
                  </a:lnTo>
                  <a:lnTo>
                    <a:pt x="1609" y="776"/>
                  </a:lnTo>
                  <a:lnTo>
                    <a:pt x="1642" y="840"/>
                  </a:lnTo>
                  <a:lnTo>
                    <a:pt x="1676" y="899"/>
                  </a:lnTo>
                  <a:lnTo>
                    <a:pt x="1709" y="951"/>
                  </a:lnTo>
                  <a:lnTo>
                    <a:pt x="1734" y="989"/>
                  </a:lnTo>
                  <a:lnTo>
                    <a:pt x="1768" y="1016"/>
                  </a:lnTo>
                  <a:lnTo>
                    <a:pt x="1793" y="1022"/>
                  </a:lnTo>
                  <a:lnTo>
                    <a:pt x="1818" y="1016"/>
                  </a:lnTo>
                  <a:lnTo>
                    <a:pt x="1843" y="995"/>
                  </a:lnTo>
                  <a:lnTo>
                    <a:pt x="1859" y="957"/>
                  </a:lnTo>
                  <a:lnTo>
                    <a:pt x="1885" y="912"/>
                  </a:lnTo>
                  <a:lnTo>
                    <a:pt x="1901" y="860"/>
                  </a:lnTo>
                  <a:lnTo>
                    <a:pt x="1918" y="802"/>
                  </a:lnTo>
                  <a:lnTo>
                    <a:pt x="1943" y="666"/>
                  </a:lnTo>
                  <a:lnTo>
                    <a:pt x="1968" y="524"/>
                  </a:lnTo>
                  <a:lnTo>
                    <a:pt x="2002" y="395"/>
                  </a:lnTo>
                  <a:lnTo>
                    <a:pt x="2018" y="330"/>
                  </a:lnTo>
                  <a:lnTo>
                    <a:pt x="2035" y="278"/>
                  </a:lnTo>
                  <a:lnTo>
                    <a:pt x="2052" y="232"/>
                  </a:lnTo>
                  <a:lnTo>
                    <a:pt x="2068" y="201"/>
                  </a:lnTo>
                  <a:lnTo>
                    <a:pt x="2111" y="149"/>
                  </a:lnTo>
                  <a:lnTo>
                    <a:pt x="2153" y="90"/>
                  </a:lnTo>
                  <a:lnTo>
                    <a:pt x="2186" y="46"/>
                  </a:lnTo>
                  <a:lnTo>
                    <a:pt x="2237" y="13"/>
                  </a:lnTo>
                  <a:lnTo>
                    <a:pt x="2253" y="0"/>
                  </a:lnTo>
                  <a:lnTo>
                    <a:pt x="2278" y="0"/>
                  </a:lnTo>
                  <a:lnTo>
                    <a:pt x="2303" y="6"/>
                  </a:lnTo>
                  <a:lnTo>
                    <a:pt x="2329" y="13"/>
                  </a:lnTo>
                  <a:lnTo>
                    <a:pt x="2354" y="32"/>
                  </a:lnTo>
                  <a:lnTo>
                    <a:pt x="2387" y="65"/>
                  </a:lnTo>
                  <a:lnTo>
                    <a:pt x="2412" y="97"/>
                  </a:lnTo>
                  <a:lnTo>
                    <a:pt x="2446" y="149"/>
                  </a:lnTo>
                  <a:lnTo>
                    <a:pt x="2479" y="213"/>
                  </a:lnTo>
                  <a:lnTo>
                    <a:pt x="2522" y="297"/>
                  </a:lnTo>
                  <a:lnTo>
                    <a:pt x="2572" y="395"/>
                  </a:lnTo>
                  <a:lnTo>
                    <a:pt x="2622" y="510"/>
                  </a:lnTo>
                  <a:lnTo>
                    <a:pt x="2672" y="634"/>
                  </a:lnTo>
                  <a:lnTo>
                    <a:pt x="2722" y="769"/>
                  </a:lnTo>
                  <a:lnTo>
                    <a:pt x="2831" y="1047"/>
                  </a:lnTo>
                  <a:lnTo>
                    <a:pt x="2931" y="1325"/>
                  </a:lnTo>
                  <a:lnTo>
                    <a:pt x="2981" y="1461"/>
                  </a:lnTo>
                  <a:lnTo>
                    <a:pt x="3024" y="1584"/>
                  </a:lnTo>
                  <a:lnTo>
                    <a:pt x="3066" y="1701"/>
                  </a:lnTo>
                  <a:lnTo>
                    <a:pt x="3108" y="1798"/>
                  </a:lnTo>
                  <a:lnTo>
                    <a:pt x="3133" y="1888"/>
                  </a:lnTo>
                  <a:lnTo>
                    <a:pt x="3158" y="1953"/>
                  </a:lnTo>
                </a:path>
              </a:pathLst>
            </a:custGeom>
            <a:noFill/>
            <a:ln cap="rnd" w="76320">
              <a:solidFill>
                <a:srgbClr val="ff00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Procesos de Negocios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Desafíos actuales: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Mayor eficienci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Mejor servicio o producto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Solución: Rediseño de proceso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i="1" lang="es-ES" sz="2400" spc="-1" strike="noStrike">
                <a:solidFill>
                  <a:srgbClr val="000000"/>
                </a:solidFill>
                <a:latin typeface="Lucida Sans"/>
              </a:rPr>
              <a:t>Un proceso de negocios es un conjunto de tareas de trabajo interrelacionadas, iniciadas en respuesta a un evento, que logra un resultado especifico para el cliente del proceso”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¿Por qué desarrollar un modelo?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Para identificar, documentar y comunicar las actividades principales de una empresa.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Como las actividades se interrelacionan con otras.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Para identificar las actividades que aportan y no aportan valor.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Para identificar actividades que necesitan ser mejorada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Beneficios de un modelo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3498"/>
              </a:lnSpc>
              <a:spcBef>
                <a:spcPts val="986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Documentos de las actuales actividade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ts val="3498"/>
              </a:lnSpc>
              <a:spcBef>
                <a:spcPts val="986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Reducir la curva de aprendizaje para nuevos usuario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ts val="4198"/>
              </a:lnSpc>
              <a:spcBef>
                <a:spcPts val="986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Captura y analiza las actividades como son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ts val="4198"/>
              </a:lnSpc>
              <a:spcBef>
                <a:spcPts val="986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Facilita el diseño/rediseño para escenarios como deben ser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Técnicas de Modelamiento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Herramientas gráficas que permiten describir (diagramar y documentar): funciones, operaciones, toma de decisiones, etc., que se realizan en el proceso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Existe un gran número de dichas herramientas, algunas son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Descomposición funcional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Modelo de Análisis Estructurado (SADT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Modelo de Ciclos de Trabajo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Modelo de Regulació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Modelo de Análisis de Actividades (IDEFx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Descomposición funcional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Se busca descomponer un sistema complejo en funciones</a:t>
            </a:r>
            <a:r>
              <a:rPr b="0" lang="es-ES" sz="2400" spc="-1" strike="noStrike">
                <a:solidFill>
                  <a:srgbClr val="ff0000"/>
                </a:solidFill>
                <a:latin typeface="Lucida Sans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elementales (estructura y relaciones)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El criterio de descomposición es reunir componentes de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Máxima cohesión (objetivo único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Mínimo acoplamiento (interferencia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4356000" y="4508640"/>
            <a:ext cx="4241520" cy="1861920"/>
            <a:chOff x="4356000" y="4508640"/>
            <a:chExt cx="4241520" cy="1861920"/>
          </a:xfrm>
        </p:grpSpPr>
        <p:graphicFrame>
          <p:nvGraphicFramePr>
            <p:cNvPr id="61" name=""/>
            <p:cNvGraphicFramePr/>
            <p:nvPr/>
          </p:nvGraphicFramePr>
          <p:xfrm>
            <a:off x="4417200" y="4508640"/>
            <a:ext cx="4180320" cy="18619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6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417200" y="4508640"/>
                      <a:ext cx="4180320" cy="1861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3" name=""/>
            <p:cNvSpPr/>
            <p:nvPr/>
          </p:nvSpPr>
          <p:spPr>
            <a:xfrm>
              <a:off x="4356000" y="5426280"/>
              <a:ext cx="3185640" cy="738720"/>
            </a:xfrm>
            <a:custGeom>
              <a:avLst/>
              <a:gdLst/>
              <a:ahLst/>
              <a:rect l="l" t="t" r="r" b="b"/>
              <a:pathLst>
                <a:path w="3159" h="2064">
                  <a:moveTo>
                    <a:pt x="0" y="2063"/>
                  </a:moveTo>
                  <a:lnTo>
                    <a:pt x="100" y="2037"/>
                  </a:lnTo>
                  <a:lnTo>
                    <a:pt x="142" y="2017"/>
                  </a:lnTo>
                  <a:lnTo>
                    <a:pt x="192" y="1992"/>
                  </a:lnTo>
                  <a:lnTo>
                    <a:pt x="227" y="1959"/>
                  </a:lnTo>
                  <a:lnTo>
                    <a:pt x="268" y="1914"/>
                  </a:lnTo>
                  <a:lnTo>
                    <a:pt x="302" y="1862"/>
                  </a:lnTo>
                  <a:lnTo>
                    <a:pt x="327" y="1791"/>
                  </a:lnTo>
                  <a:lnTo>
                    <a:pt x="335" y="1746"/>
                  </a:lnTo>
                  <a:lnTo>
                    <a:pt x="344" y="1695"/>
                  </a:lnTo>
                  <a:lnTo>
                    <a:pt x="344" y="1636"/>
                  </a:lnTo>
                  <a:lnTo>
                    <a:pt x="352" y="1572"/>
                  </a:lnTo>
                  <a:lnTo>
                    <a:pt x="352" y="1436"/>
                  </a:lnTo>
                  <a:lnTo>
                    <a:pt x="344" y="1287"/>
                  </a:lnTo>
                  <a:lnTo>
                    <a:pt x="344" y="1139"/>
                  </a:lnTo>
                  <a:lnTo>
                    <a:pt x="344" y="1003"/>
                  </a:lnTo>
                  <a:lnTo>
                    <a:pt x="352" y="944"/>
                  </a:lnTo>
                  <a:lnTo>
                    <a:pt x="352" y="886"/>
                  </a:lnTo>
                  <a:lnTo>
                    <a:pt x="369" y="840"/>
                  </a:lnTo>
                  <a:lnTo>
                    <a:pt x="377" y="802"/>
                  </a:lnTo>
                  <a:lnTo>
                    <a:pt x="394" y="769"/>
                  </a:lnTo>
                  <a:lnTo>
                    <a:pt x="410" y="750"/>
                  </a:lnTo>
                  <a:lnTo>
                    <a:pt x="436" y="731"/>
                  </a:lnTo>
                  <a:lnTo>
                    <a:pt x="461" y="724"/>
                  </a:lnTo>
                  <a:lnTo>
                    <a:pt x="511" y="717"/>
                  </a:lnTo>
                  <a:lnTo>
                    <a:pt x="569" y="717"/>
                  </a:lnTo>
                  <a:lnTo>
                    <a:pt x="636" y="724"/>
                  </a:lnTo>
                  <a:lnTo>
                    <a:pt x="696" y="731"/>
                  </a:lnTo>
                  <a:lnTo>
                    <a:pt x="754" y="717"/>
                  </a:lnTo>
                  <a:lnTo>
                    <a:pt x="788" y="711"/>
                  </a:lnTo>
                  <a:lnTo>
                    <a:pt x="813" y="692"/>
                  </a:lnTo>
                  <a:lnTo>
                    <a:pt x="838" y="673"/>
                  </a:lnTo>
                  <a:lnTo>
                    <a:pt x="871" y="640"/>
                  </a:lnTo>
                  <a:lnTo>
                    <a:pt x="921" y="569"/>
                  </a:lnTo>
                  <a:lnTo>
                    <a:pt x="971" y="479"/>
                  </a:lnTo>
                  <a:lnTo>
                    <a:pt x="1030" y="388"/>
                  </a:lnTo>
                  <a:lnTo>
                    <a:pt x="1080" y="310"/>
                  </a:lnTo>
                  <a:lnTo>
                    <a:pt x="1105" y="272"/>
                  </a:lnTo>
                  <a:lnTo>
                    <a:pt x="1130" y="239"/>
                  </a:lnTo>
                  <a:lnTo>
                    <a:pt x="1165" y="220"/>
                  </a:lnTo>
                  <a:lnTo>
                    <a:pt x="1190" y="201"/>
                  </a:lnTo>
                  <a:lnTo>
                    <a:pt x="1223" y="194"/>
                  </a:lnTo>
                  <a:lnTo>
                    <a:pt x="1248" y="201"/>
                  </a:lnTo>
                  <a:lnTo>
                    <a:pt x="1282" y="220"/>
                  </a:lnTo>
                  <a:lnTo>
                    <a:pt x="1315" y="253"/>
                  </a:lnTo>
                  <a:lnTo>
                    <a:pt x="1349" y="297"/>
                  </a:lnTo>
                  <a:lnTo>
                    <a:pt x="1382" y="355"/>
                  </a:lnTo>
                  <a:lnTo>
                    <a:pt x="1424" y="414"/>
                  </a:lnTo>
                  <a:lnTo>
                    <a:pt x="1457" y="485"/>
                  </a:lnTo>
                  <a:lnTo>
                    <a:pt x="1532" y="634"/>
                  </a:lnTo>
                  <a:lnTo>
                    <a:pt x="1609" y="776"/>
                  </a:lnTo>
                  <a:lnTo>
                    <a:pt x="1642" y="840"/>
                  </a:lnTo>
                  <a:lnTo>
                    <a:pt x="1676" y="899"/>
                  </a:lnTo>
                  <a:lnTo>
                    <a:pt x="1709" y="951"/>
                  </a:lnTo>
                  <a:lnTo>
                    <a:pt x="1734" y="989"/>
                  </a:lnTo>
                  <a:lnTo>
                    <a:pt x="1768" y="1016"/>
                  </a:lnTo>
                  <a:lnTo>
                    <a:pt x="1793" y="1022"/>
                  </a:lnTo>
                  <a:lnTo>
                    <a:pt x="1818" y="1016"/>
                  </a:lnTo>
                  <a:lnTo>
                    <a:pt x="1843" y="995"/>
                  </a:lnTo>
                  <a:lnTo>
                    <a:pt x="1859" y="957"/>
                  </a:lnTo>
                  <a:lnTo>
                    <a:pt x="1885" y="912"/>
                  </a:lnTo>
                  <a:lnTo>
                    <a:pt x="1901" y="860"/>
                  </a:lnTo>
                  <a:lnTo>
                    <a:pt x="1918" y="802"/>
                  </a:lnTo>
                  <a:lnTo>
                    <a:pt x="1943" y="666"/>
                  </a:lnTo>
                  <a:lnTo>
                    <a:pt x="1968" y="524"/>
                  </a:lnTo>
                  <a:lnTo>
                    <a:pt x="2002" y="395"/>
                  </a:lnTo>
                  <a:lnTo>
                    <a:pt x="2018" y="330"/>
                  </a:lnTo>
                  <a:lnTo>
                    <a:pt x="2035" y="278"/>
                  </a:lnTo>
                  <a:lnTo>
                    <a:pt x="2052" y="232"/>
                  </a:lnTo>
                  <a:lnTo>
                    <a:pt x="2068" y="201"/>
                  </a:lnTo>
                  <a:lnTo>
                    <a:pt x="2111" y="149"/>
                  </a:lnTo>
                  <a:lnTo>
                    <a:pt x="2153" y="90"/>
                  </a:lnTo>
                  <a:lnTo>
                    <a:pt x="2186" y="46"/>
                  </a:lnTo>
                  <a:lnTo>
                    <a:pt x="2237" y="13"/>
                  </a:lnTo>
                  <a:lnTo>
                    <a:pt x="2253" y="0"/>
                  </a:lnTo>
                  <a:lnTo>
                    <a:pt x="2278" y="0"/>
                  </a:lnTo>
                  <a:lnTo>
                    <a:pt x="2303" y="6"/>
                  </a:lnTo>
                  <a:lnTo>
                    <a:pt x="2329" y="13"/>
                  </a:lnTo>
                  <a:lnTo>
                    <a:pt x="2354" y="32"/>
                  </a:lnTo>
                  <a:lnTo>
                    <a:pt x="2387" y="65"/>
                  </a:lnTo>
                  <a:lnTo>
                    <a:pt x="2412" y="97"/>
                  </a:lnTo>
                  <a:lnTo>
                    <a:pt x="2446" y="149"/>
                  </a:lnTo>
                  <a:lnTo>
                    <a:pt x="2479" y="213"/>
                  </a:lnTo>
                  <a:lnTo>
                    <a:pt x="2522" y="297"/>
                  </a:lnTo>
                  <a:lnTo>
                    <a:pt x="2572" y="395"/>
                  </a:lnTo>
                  <a:lnTo>
                    <a:pt x="2622" y="510"/>
                  </a:lnTo>
                  <a:lnTo>
                    <a:pt x="2672" y="634"/>
                  </a:lnTo>
                  <a:lnTo>
                    <a:pt x="2722" y="769"/>
                  </a:lnTo>
                  <a:lnTo>
                    <a:pt x="2831" y="1047"/>
                  </a:lnTo>
                  <a:lnTo>
                    <a:pt x="2931" y="1325"/>
                  </a:lnTo>
                  <a:lnTo>
                    <a:pt x="2981" y="1461"/>
                  </a:lnTo>
                  <a:lnTo>
                    <a:pt x="3024" y="1584"/>
                  </a:lnTo>
                  <a:lnTo>
                    <a:pt x="3066" y="1701"/>
                  </a:lnTo>
                  <a:lnTo>
                    <a:pt x="3108" y="1798"/>
                  </a:lnTo>
                  <a:lnTo>
                    <a:pt x="3133" y="1888"/>
                  </a:lnTo>
                  <a:lnTo>
                    <a:pt x="3158" y="1953"/>
                  </a:lnTo>
                </a:path>
              </a:pathLst>
            </a:custGeom>
            <a:noFill/>
            <a:ln cap="rnd" w="76320">
              <a:solidFill>
                <a:srgbClr val="00ff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Ciclos de trabajo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Fernando Flore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Los procesos son redes de acciones y compromisos entre clientes y ejecutores. Coordinación de actividades para satisfacer un requerimiento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Existen 4 etapas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Preparación (petición u oferta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Negociación (promesas mutuas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Ejecució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Aceptación (condiciones de satisfacción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7T19:24:10Z</dcterms:created>
  <dc:creator>Laura Bergells</dc:creator>
  <dc:description>Visit www.maniactive.com for Free PowerPoint Templates.</dc:description>
  <dc:language>en-US</dc:language>
  <cp:lastModifiedBy>dii</cp:lastModifiedBy>
  <dcterms:modified xsi:type="dcterms:W3CDTF">2005-08-03T19:45:40Z</dcterms:modified>
  <cp:revision>217</cp:revision>
  <dc:subject/>
  <dc:title>Lead Follow-Up: Hot, Warm &amp; Cold  CRM Conference,  October 2001 </dc:title>
</cp:coreProperties>
</file>